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FE2-A001-4ED9-AA2E-BFE4A87A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8C0-109F-41F4-AB13-1CF4CE4E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A63-6B63-407B-96E7-7678F9EA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E13-4042-4F72-8C1E-0B5B7E66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BA6-012D-4380-A65C-86FE53AE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5DA-F492-4A0B-8D94-37883B63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9CA-44F0-4832-871F-A55F00E1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72D-531D-46D1-900A-64593138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691-3A4C-45CE-ADD5-52EF68C1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00B-A36B-486F-BA88-12D10AA7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D40-CCF6-4E0D-B9A4-855798A7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C86-8F6C-46D0-ACDA-3970FD16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85B8-BE7C-4443-979E-EC2BF857E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roble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analyzed and found to contain 25.9% Nitrogen and 74.1% Oxygen. What is the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1532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5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9 g N x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mol 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.85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0 g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.1 g O x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mol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4.63 mol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0 g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447920" y="167616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352680" y="2286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447920" y="34290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429000" y="39621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29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625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8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85        1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296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400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4582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050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25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9:07:14Z</dcterms:created>
  <dc:creator>Richland School District Two</dc:creator>
  <dc:description/>
  <dc:language>en-US</dc:language>
  <cp:lastModifiedBy>Carolyn</cp:lastModifiedBy>
  <dcterms:modified xsi:type="dcterms:W3CDTF">2009-05-25T22:09:45Z</dcterms:modified>
  <cp:revision>3</cp:revision>
  <dc:subject/>
  <dc:title>Sample Problem 1</dc:title>
</cp:coreProperties>
</file>